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8.jpeg" ContentType="image/jpeg"/>
  <Override PartName="/ppt/media/image5.png" ContentType="image/png"/>
  <Override PartName="/ppt/media/image12.png" ContentType="image/png"/>
  <Override PartName="/ppt/media/image18.wmf" ContentType="image/x-wmf"/>
  <Override PartName="/ppt/media/image1.png" ContentType="image/pn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414720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159984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4147200"/>
            <a:ext cx="26989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4732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414720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1599840"/>
            <a:ext cx="40903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4147200"/>
            <a:ext cx="838224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599840"/>
            <a:ext cx="8382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0" y="6613200"/>
            <a:ext cx="3124080" cy="244440"/>
          </a:xfrm>
          <a:prstGeom prst="rect">
            <a:avLst/>
          </a:prstGeom>
          <a:solidFill>
            <a:srgbClr val="0056ac"/>
          </a:solidFill>
          <a:ln w="0">
            <a:noFill/>
          </a:ln>
        </p:spPr>
        <p:txBody>
          <a:bodyPr lIns="90000" rIns="90000" tIns="-29880" bIns="19764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C. Prior (for the SPL study group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71440" y="6613200"/>
            <a:ext cx="3429000" cy="24444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txBody>
          <a:bodyPr lIns="90000" rIns="90000" tIns="-29880" bIns="19764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33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SPL-based Proton Driver for </a:t>
            </a:r>
            <a:r>
              <a:rPr b="0" lang="en-US" sz="14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 Facilitie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6400800" y="6611760"/>
            <a:ext cx="2743200" cy="246240"/>
          </a:xfrm>
          <a:prstGeom prst="rect">
            <a:avLst/>
          </a:prstGeom>
          <a:solidFill>
            <a:srgbClr val="c5db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199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SS meeting, 23-25.1.06     (</a:t>
            </a:r>
            <a:fld id="{F9221F93-A978-4510-971F-3F47DEA5B8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3fc"/>
            </a:gs>
            <a:gs pos="100000">
              <a:srgbClr val="d9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276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SPL-based Proton Driver for</a:t>
            </a:r>
            <a:br>
              <a:rPr sz="4400"/>
            </a:br>
            <a:r>
              <a:rPr b="0" lang="en-US" sz="4400" spc="-1" strike="noStrike">
                <a:solidFill>
                  <a:srgbClr val="0056ac"/>
                </a:solidFill>
                <a:latin typeface="Symbol"/>
                <a:ea typeface="Symbol"/>
              </a:rPr>
              <a:t></a:t>
            </a: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 Facilities at CERN:</a:t>
            </a:r>
            <a:br>
              <a:rPr sz="4400"/>
            </a:br>
            <a:r>
              <a:rPr b="0" lang="en-US" sz="4400" spc="-1" strike="noStrike">
                <a:solidFill>
                  <a:srgbClr val="0056ac"/>
                </a:solidFill>
                <a:latin typeface="Arial"/>
              </a:rPr>
              <a:t>Updated Description</a:t>
            </a:r>
            <a:endParaRPr b="0" lang="en-US" sz="44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.R. Prior f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. Garoby, F. Gerigk and the SPL study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SS meeting, 23-25.1.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0" name=""/>
          <p:cNvGraphicFramePr/>
          <p:nvPr/>
        </p:nvGraphicFramePr>
        <p:xfrm>
          <a:off x="990720" y="1066680"/>
          <a:ext cx="6324480" cy="4397400"/>
        </p:xfrm>
        <a:graphic>
          <a:graphicData uri="http://schemas.openxmlformats.org/drawingml/2006/table">
            <a:tbl>
              <a:tblPr/>
              <a:tblGrid>
                <a:gridCol w="3170160"/>
                <a:gridCol w="903240"/>
                <a:gridCol w="1432080"/>
                <a:gridCol w="819000"/>
              </a:tblGrid>
              <a:tr h="4708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DR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[2000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DR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2006]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erg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3.5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V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beam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RF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7.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cryogenics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.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6.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petition rat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5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z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pulse lengt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0.5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verage pulse current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current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.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6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am duty cycl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2.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ak RF pow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6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W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172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352.2 MHz klystrons (1 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704.4 MHz klystrons (5 MW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4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6208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. of tetrod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59200"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yo temperatur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.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56ac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0" bIns="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21" name=""/>
          <p:cNvSpPr/>
          <p:nvPr/>
        </p:nvSpPr>
        <p:spPr>
          <a:xfrm>
            <a:off x="6019920" y="156204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019920" y="340668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019920" y="36561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019920" y="44593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 rot="10800000">
            <a:off x="6019560" y="20826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rot="10800000">
            <a:off x="6019560" y="23475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 rot="10800000">
            <a:off x="6019560" y="262224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rot="10800000">
            <a:off x="6019560" y="3143160"/>
            <a:ext cx="75960" cy="152640"/>
          </a:xfrm>
          <a:prstGeom prst="upArrow">
            <a:avLst>
              <a:gd name="adj1" fmla="val 50000"/>
              <a:gd name="adj2" fmla="val 5023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rot="10800000">
            <a:off x="6019560" y="393840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rot="10800000">
            <a:off x="6019560" y="420336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rot="10800000">
            <a:off x="6019560" y="5209920"/>
            <a:ext cx="75960" cy="152280"/>
          </a:xfrm>
          <a:prstGeom prst="upArrow">
            <a:avLst>
              <a:gd name="adj1" fmla="val 50000"/>
              <a:gd name="adj2" fmla="val 50118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663560" y="582768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* after chopp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4. SPL bea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1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57200" y="1828800"/>
            <a:ext cx="4114800" cy="119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or 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beta-beam based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cil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kW beam @ 1-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-beam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@ 3.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334120" y="1676520"/>
            <a:ext cx="3429000" cy="734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Long beam burst (~m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direct use of linac 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800600"/>
            <a:ext cx="411480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for a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factor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beam @ 4-10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334120" y="2743200"/>
            <a:ext cx="3429000" cy="7340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eam burst (~</a:t>
            </a:r>
            <a:r>
              <a:rPr b="1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4120" y="4114800"/>
            <a:ext cx="3429000" cy="16484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eam burst (~</a:t>
            </a:r>
            <a:r>
              <a:rPr b="1" lang="en-GB" sz="1800" spc="-1" strike="noStrike">
                <a:solidFill>
                  <a:srgbClr val="0000ff"/>
                </a:solidFill>
                <a:latin typeface="Symbol"/>
                <a:ea typeface="Symbol"/>
              </a:rPr>
              <a:t>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accumula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Short bunches (~n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</a:t>
            </a:r>
            <a:r>
              <a:rPr b="1" lang="en-GB" sz="1800" spc="-1" strike="noStrike">
                <a:solidFill>
                  <a:srgbClr val="0000ff"/>
                </a:solidFill>
                <a:latin typeface="Arial"/>
              </a:rPr>
              <a:t>compr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0" y="26668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572000" y="19810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4724280"/>
            <a:ext cx="762120" cy="457200"/>
          </a:xfrm>
          <a:custGeom>
            <a:avLst/>
            <a:gdLst>
              <a:gd name="textAreaLeft" fmla="*/ 118800 w 762120"/>
              <a:gd name="textAreaRight" fmla="*/ 667080 w 7621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990720"/>
            <a:ext cx="853452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hysics, the time structure of the linac beam has to be chang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141920" y="5940360"/>
            <a:ext cx="659376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The requirements of a </a:t>
            </a:r>
            <a:r>
              <a:rPr b="0" lang="en-GB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ff3300"/>
                </a:solidFill>
                <a:latin typeface="Arial"/>
              </a:rPr>
              <a:t> factory are the most demand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2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1295280" y="2362320"/>
          <a:ext cx="6400800" cy="2190600"/>
        </p:xfrm>
        <a:graphic>
          <a:graphicData uri="http://schemas.openxmlformats.org/drawingml/2006/table">
            <a:tbl>
              <a:tblPr/>
              <a:tblGrid>
                <a:gridCol w="3581640"/>
                <a:gridCol w="281916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eam power (P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~ 4 MW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4 – 10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-2 ns r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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00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rst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-3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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327560" y="52941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041560" y="87480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1523880"/>
            <a:ext cx="4572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arameters required by a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factory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39280" y="5638680"/>
            <a:ext cx="217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* As estimated toda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3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286000" y="1066680"/>
            <a:ext cx="457200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Consequences for a linac-based dr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228600" y="1828800"/>
          <a:ext cx="8686800" cy="342900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644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st increases with 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ize T (&lt; 4 – 8 ? GeV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straints to a minimum number of protons/pulse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006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Energy acceptance + longitudinal space charge restrict to low longitudinal emitt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um number of bunches (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5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Accumulator circumference C is proportional to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&amp; Laslett tune shift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 is proportional to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7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minimize 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to minimize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Q &amp; cos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rst leng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onstraints the highest value of 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4" name=""/>
          <p:cNvGraphicFramePr/>
          <p:nvPr/>
        </p:nvGraphicFramePr>
        <p:xfrm>
          <a:off x="228600" y="1523880"/>
          <a:ext cx="5943600" cy="449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5943600" cy="449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4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8380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1 (2000): severe constraint due to the low beam energ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6553080" y="2362320"/>
          <a:ext cx="2133720" cy="3479760"/>
        </p:xfrm>
        <a:graphic>
          <a:graphicData uri="http://schemas.openxmlformats.org/drawingml/2006/table">
            <a:tbl>
              <a:tblPr/>
              <a:tblGrid>
                <a:gridCol w="762120"/>
                <a:gridCol w="1371600"/>
              </a:tblGrid>
              <a:tr h="4316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 Ge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832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.27 10</a:t>
                      </a:r>
                      <a:r>
                        <a:rPr b="1" lang="en-GB" sz="16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14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2.7 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0796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316 </a:t>
                      </a: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6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59" name=""/>
          <p:cNvSpPr/>
          <p:nvPr/>
        </p:nvSpPr>
        <p:spPr>
          <a:xfrm>
            <a:off x="7467480" y="1295280"/>
            <a:ext cx="228600" cy="990720"/>
          </a:xfrm>
          <a:prstGeom prst="downArrow">
            <a:avLst>
              <a:gd name="adj1" fmla="val 50000"/>
              <a:gd name="adj2" fmla="val 10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5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57200" y="10666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2 (2006): higher beam energy =&gt; less constrai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14800" y="1600200"/>
            <a:ext cx="228600" cy="1066680"/>
          </a:xfrm>
          <a:prstGeom prst="downArrow">
            <a:avLst>
              <a:gd name="adj1" fmla="val 50000"/>
              <a:gd name="adj2" fmla="val 11665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3" name=""/>
          <p:cNvGraphicFramePr/>
          <p:nvPr/>
        </p:nvGraphicFramePr>
        <p:xfrm>
          <a:off x="228600" y="2743200"/>
          <a:ext cx="8686800" cy="2759040"/>
        </p:xfrm>
        <a:graphic>
          <a:graphicData uri="http://schemas.openxmlformats.org/drawingml/2006/table">
            <a:tbl>
              <a:tblPr/>
              <a:tblGrid>
                <a:gridCol w="2438280"/>
                <a:gridCol w="624852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43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 1.43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3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For the same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p/p acceptance + because of lower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+ relaxing on 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(2 ns instead of 1 ns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goal)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8.4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737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(goal)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(goal)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64" name=""/>
          <p:cNvSpPr/>
          <p:nvPr/>
        </p:nvSpPr>
        <p:spPr>
          <a:xfrm>
            <a:off x="4347360" y="1828800"/>
            <a:ext cx="255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Aggressive approach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08880" y="5791320"/>
            <a:ext cx="40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tudy is going on to check feasibility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6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04920" y="1066680"/>
            <a:ext cx="8534160" cy="4667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With a linac-based driver there is the possibility to do multiple accumulations with a single linac beam pulse, and therefore generate multiple bursts of beam onto the targe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is is of interest if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ll parameters are constant in 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channel during the whole duration of the proton beam on the target (transverse focusing, gradient in the RF cavities…). It is not unreasonable to hope for ~ 1 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torage ring is long enough to contain all the successive burst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main disadvantage is that the kickers must provide multiple kicks within ~ 1 m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3300"/>
                </a:solidFill>
                <a:latin typeface="Arial"/>
              </a:rPr>
              <a:t>This makes it possible to tailor the intensity per burst / the distance between bunches / the main cycling rate of whole facility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" dur="5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6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5. Scenarios for accumulation &amp; compression (7/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838080"/>
            <a:ext cx="8153280" cy="398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With SPL CDR2 (2006): other approach using multi-puls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27280" y="12952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228600" y="2743200"/>
          <a:ext cx="8686800" cy="3417840"/>
        </p:xfrm>
        <a:graphic>
          <a:graphicData uri="http://schemas.openxmlformats.org/drawingml/2006/table">
            <a:tbl>
              <a:tblPr/>
              <a:tblGrid>
                <a:gridCol w="2050920"/>
                <a:gridCol w="3359160"/>
                <a:gridCol w="3276720"/>
              </a:tblGrid>
              <a:tr h="64260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Kinetic energy (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3.5 Ge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80040"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Repetition rate (f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re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50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2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0.72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25 Hz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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N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p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=2 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Symbol"/>
                          <a:ea typeface="Symbol"/>
                        </a:rPr>
                        <a:t>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1.43 10</a:t>
                      </a:r>
                      <a:r>
                        <a:rPr b="1" lang="en-GB" sz="1800" spc="-1" strike="noStrike" baseline="30000">
                          <a:solidFill>
                            <a:srgbClr val="0000ff"/>
                          </a:solidFill>
                          <a:latin typeface="Arial"/>
                        </a:rPr>
                        <a:t>14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 p/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Time interval between puls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285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0.570 m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61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Bunch length (l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4.2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N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8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[8.41 10</a:t>
                      </a:r>
                      <a:r>
                        <a:rPr b="1" lang="en-GB" sz="1800" spc="-1" strike="noStrike" baseline="30000">
                          <a:solidFill>
                            <a:srgbClr val="ff3300"/>
                          </a:solidFill>
                          <a:latin typeface="Arial"/>
                        </a:rPr>
                        <a:t>12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p/b]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954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Distance between bunches (d</a:t>
                      </a:r>
                      <a:r>
                        <a:rPr b="1" lang="en-GB" sz="1800" spc="-1" strike="noStrike" baseline="-25000">
                          <a:solidFill>
                            <a:srgbClr val="0000ff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0000ff"/>
                          </a:solidFill>
                          <a:latin typeface="Arial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d</a:t>
                      </a:r>
                      <a:r>
                        <a:rPr b="1" lang="en-GB" sz="1800" spc="-1" strike="noStrike" baseline="-25000">
                          <a:solidFill>
                            <a:srgbClr val="ff3300"/>
                          </a:solidFill>
                          <a:latin typeface="Arial"/>
                        </a:rPr>
                        <a:t>b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 = 90.86 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C = 1.635 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1" lang="en-GB" sz="1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172" name=""/>
          <p:cNvSpPr/>
          <p:nvPr/>
        </p:nvSpPr>
        <p:spPr>
          <a:xfrm>
            <a:off x="544680" y="1295280"/>
            <a:ext cx="2960640" cy="82404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the first set of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unfeasible: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pulse t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the accumulator/compr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737320" y="1295280"/>
            <a:ext cx="228600" cy="1447920"/>
          </a:xfrm>
          <a:prstGeom prst="downArrow">
            <a:avLst>
              <a:gd name="adj1" fmla="val 50000"/>
              <a:gd name="adj2" fmla="val 15834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54760" y="1295280"/>
            <a:ext cx="2960640" cy="11008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f the first set of paramet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s feasible: 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pulse twi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the accumulator/compress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and divide f</a:t>
            </a:r>
            <a:r>
              <a:rPr b="1" lang="en-GB" sz="1600" spc="-1" strike="noStrike" baseline="-25000">
                <a:solidFill>
                  <a:srgbClr val="ff3300"/>
                </a:solidFill>
                <a:latin typeface="Arial"/>
              </a:rPr>
              <a:t>rep</a:t>
            </a:r>
            <a:r>
              <a:rPr b="1" lang="en-GB" sz="1600" spc="-1" strike="noStrike">
                <a:solidFill>
                  <a:srgbClr val="ff3300"/>
                </a:solidFill>
                <a:latin typeface="Arial"/>
              </a:rPr>
              <a:t> by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380880" y="914400"/>
            <a:ext cx="83822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e new SPL design (CDR2 – 2006) is largely improv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ergy (3.5 GeV) is a compromise that can potentially satisfy EURISOL, neutrino applications, and LHC upgrade scenario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gn is more optimum (length reduced by 35% while the  energy is increased by 60%, higher instantaneous current reducing the number of turns for accumulation in the ring…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grades are possible in terms of energy and/or pow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This typically illustrates the potential of a linac-based proton driver for a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 factory, which has an unmatchable flexibility to adapt to the requirements of the following part of the facilit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228600"/>
            <a:ext cx="883944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6. Conclusions &amp;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9" dur="2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828440"/>
            <a:ext cx="838224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Re-design of the S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taged constru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PL beam characteristi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Scenarios for accumulation and compres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56a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6ac"/>
                </a:solidFill>
                <a:latin typeface="Arial"/>
              </a:rPr>
              <a:t>Conclusions &amp; outlo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1. Re-design of the SPL (2005/6)</a:t>
            </a:r>
            <a:endParaRPr b="0" lang="en-US" sz="2800" spc="-1" strike="noStrike">
              <a:solidFill>
                <a:srgbClr val="0056ac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33520" y="1676520"/>
            <a:ext cx="405432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352.2 MHz LEP RF equip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 cavities, 1MW CW klys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274320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ERN neutrino factory desig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2.2 GeV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426708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ogress in bulk Nb SC technolog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4x accel.grad., pulsed 4-5 MW klystr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33520" y="5334120"/>
            <a:ext cx="4038480" cy="581400"/>
          </a:xfrm>
          <a:prstGeom prst="rect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signed for multiple us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beam, superbeam,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EURISOL, PS 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095880" y="1752480"/>
            <a:ext cx="2514600" cy="129564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SPL CDR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95880" y="4419720"/>
            <a:ext cx="2514600" cy="1295280"/>
          </a:xfrm>
          <a:prstGeom prst="ellipse">
            <a:avLst/>
          </a:prstGeom>
          <a:gradFill rotWithShape="0">
            <a:gsLst>
              <a:gs pos="0">
                <a:srgbClr val="fefefe">
                  <a:alpha val="0"/>
                </a:srgbClr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6ac"/>
                </a:solidFill>
                <a:latin typeface="Arial"/>
              </a:rPr>
              <a:t>SPL CDR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0" y="1905120"/>
            <a:ext cx="1523880" cy="45720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572000" y="2438280"/>
            <a:ext cx="1523880" cy="60984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0" y="4572000"/>
            <a:ext cx="1523880" cy="45720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4572000" y="5105160"/>
            <a:ext cx="1523880" cy="609480"/>
          </a:xfrm>
          <a:prstGeom prst="line">
            <a:avLst/>
          </a:prstGeom>
          <a:ln w="76320">
            <a:solidFill>
              <a:srgbClr val="0056ac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09680" y="1294920"/>
            <a:ext cx="990720" cy="381240"/>
          </a:xfrm>
          <a:prstGeom prst="line">
            <a:avLst/>
          </a:prstGeom>
          <a:ln w="507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352680"/>
            <a:ext cx="990720" cy="457200"/>
          </a:xfrm>
          <a:prstGeom prst="line">
            <a:avLst/>
          </a:prstGeom>
          <a:ln w="50760">
            <a:solidFill>
              <a:srgbClr val="ff3300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202200" y="1143000"/>
            <a:ext cx="3398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SC technology has progressed a lo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79960" y="3657600"/>
            <a:ext cx="2504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Arial"/>
              </a:rPr>
              <a:t>Optimum energy is high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1905120" y="685800"/>
            <a:ext cx="4647960" cy="106668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SC linac replacing the 40 years</a:t>
            </a:r>
            <a:br>
              <a:rPr sz="1800"/>
            </a:b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old PS booster (1.4 GeV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4920" y="2209680"/>
            <a:ext cx="2952720" cy="64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5 MW driver for EURISO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.2 – 5 MW beam @ 1-2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105520" y="4343400"/>
            <a:ext cx="3657600" cy="642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factory based on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ca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 MW @ 4 - 10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828800" y="3505320"/>
            <a:ext cx="2952720" cy="916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LHC upgr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ton beams wit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x brightnes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2362320"/>
            <a:ext cx="3673440" cy="3682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facility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based 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33520" y="5029200"/>
            <a:ext cx="80308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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ajor upgrade of the proton injector complex at CERN [ performance: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2x higher brightness </a:t>
            </a: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+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reliability] for the benefit of all users (LHC, fixed target etc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st-effective time sharing between nuclear [ISOL] and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pplic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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tential for future increases in energy and/or pow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2. Applic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2895480"/>
            <a:ext cx="3809880" cy="9169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ffff53"/>
              </a:gs>
            </a:gsLst>
            <a:path path="rect">
              <a:fillToRect l="50000" t="50000" r="50000" b="50000"/>
            </a:path>
          </a:gradFill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ta-beam [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00 kW beam @ 1-5 GeV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uper-b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631200" y="3886200"/>
            <a:ext cx="409320" cy="36828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3300"/>
                </a:solidFill>
                <a:latin typeface="Arial"/>
              </a:rPr>
              <a:t>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7090200">
            <a:off x="1713960" y="171396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rot="3078000">
            <a:off x="5890680" y="1819080"/>
            <a:ext cx="914400" cy="304920"/>
          </a:xfrm>
          <a:custGeom>
            <a:avLst/>
            <a:gdLst>
              <a:gd name="textAreaLeft" fmla="*/ 114120 w 914400"/>
              <a:gd name="textAreaRight" fmla="*/ 800280 w 9144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rot="6848400">
            <a:off x="2833200" y="2517480"/>
            <a:ext cx="1828800" cy="304920"/>
          </a:xfrm>
          <a:custGeom>
            <a:avLst/>
            <a:gdLst>
              <a:gd name="textAreaLeft" fmla="*/ 228600 w 1828800"/>
              <a:gd name="textAreaRight" fmla="*/ 1600200 w 1828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761760"/>
            <a:ext cx="44956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3 MeV test stand (beam in 2008)</a:t>
            </a:r>
            <a:endParaRPr b="0" lang="en-US" sz="2000" spc="-1" strike="noStrike">
              <a:solidFill>
                <a:srgbClr val="0056ac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80880" y="3641760"/>
            <a:ext cx="2743200" cy="2158920"/>
          </a:xfrm>
          <a:prstGeom prst="rect">
            <a:avLst/>
          </a:prstGeom>
          <a:ln w="41400">
            <a:solidFill>
              <a:srgbClr val="0056ac"/>
            </a:solidFill>
            <a:miter/>
          </a:ln>
        </p:spPr>
      </p:pic>
      <p:pic>
        <p:nvPicPr>
          <p:cNvPr id="74" name="" descr=""/>
          <p:cNvPicPr/>
          <p:nvPr/>
        </p:nvPicPr>
        <p:blipFill>
          <a:blip r:embed="rId2"/>
          <a:stretch/>
        </p:blipFill>
        <p:spPr>
          <a:xfrm>
            <a:off x="3429000" y="3573360"/>
            <a:ext cx="2590920" cy="230364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6400800" y="3505320"/>
            <a:ext cx="2360520" cy="267804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76" name="" descr=""/>
          <p:cNvPicPr/>
          <p:nvPr/>
        </p:nvPicPr>
        <p:blipFill>
          <a:blip r:embed="rId4"/>
          <a:stretch/>
        </p:blipFill>
        <p:spPr>
          <a:xfrm>
            <a:off x="6400800" y="609480"/>
            <a:ext cx="2313000" cy="261648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cxnSp>
        <p:nvCxnSpPr>
          <p:cNvPr id="77" name=""/>
          <p:cNvCxnSpPr>
            <a:endCxn id="73" idx="0"/>
          </p:cNvCxnSpPr>
          <p:nvPr/>
        </p:nvCxnSpPr>
        <p:spPr>
          <a:xfrm>
            <a:off x="1295280" y="2133720"/>
            <a:ext cx="457920" cy="148824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78" name=""/>
          <p:cNvCxnSpPr/>
          <p:nvPr/>
        </p:nvCxnSpPr>
        <p:spPr>
          <a:xfrm>
            <a:off x="2209320" y="2133720"/>
            <a:ext cx="1220040" cy="13723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79" name=""/>
          <p:cNvCxnSpPr/>
          <p:nvPr/>
        </p:nvCxnSpPr>
        <p:spPr>
          <a:xfrm>
            <a:off x="2437920" y="2133720"/>
            <a:ext cx="3886920" cy="13723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80" name=""/>
          <p:cNvCxnSpPr>
            <a:stCxn id="81" idx="3"/>
            <a:endCxn id="76" idx="1"/>
          </p:cNvCxnSpPr>
          <p:nvPr/>
        </p:nvCxnSpPr>
        <p:spPr>
          <a:xfrm flipV="1">
            <a:off x="4419720" y="1917000"/>
            <a:ext cx="1962720" cy="10548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sp>
        <p:nvSpPr>
          <p:cNvPr id="82" name=""/>
          <p:cNvSpPr/>
          <p:nvPr/>
        </p:nvSpPr>
        <p:spPr>
          <a:xfrm>
            <a:off x="7008120" y="6248520"/>
            <a:ext cx="143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uncher cav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654360" y="6019920"/>
            <a:ext cx="2108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hopper in quadrupo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914040" y="594360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PHI RFQ (CE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933240" y="15228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alo moni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5"/>
          <a:stretch/>
        </p:blipFill>
        <p:spPr>
          <a:xfrm>
            <a:off x="533520" y="1447920"/>
            <a:ext cx="3886200" cy="11491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1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133720" y="838080"/>
            <a:ext cx="3200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Linac4 (beam in 201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33520" y="1600200"/>
            <a:ext cx="6526080" cy="115236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304920" y="3809880"/>
            <a:ext cx="2819160" cy="213516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3429000" y="3657600"/>
            <a:ext cx="2514600" cy="241452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248520" y="3809880"/>
            <a:ext cx="2709720" cy="201780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sp>
        <p:nvSpPr>
          <p:cNvPr id="93" name=""/>
          <p:cNvSpPr/>
          <p:nvPr/>
        </p:nvSpPr>
        <p:spPr>
          <a:xfrm>
            <a:off x="377640" y="6019920"/>
            <a:ext cx="26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TEP Moscow &amp; VNIIEF Sarov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&amp; IN2P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735000" y="6095880"/>
            <a:ext cx="190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INP Novosibirsk &amp;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VNIITEF Snezins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22320" y="5943600"/>
            <a:ext cx="246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2P3, BINP, CEA, VNIITE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006960" y="7984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low duty cycle: 0.0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endCxn id="90" idx="0"/>
          </p:cNvCxnSpPr>
          <p:nvPr/>
        </p:nvCxnSpPr>
        <p:spPr>
          <a:xfrm flipH="1">
            <a:off x="1713960" y="2286000"/>
            <a:ext cx="1702440" cy="15055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98" name=""/>
          <p:cNvCxnSpPr>
            <a:endCxn id="91" idx="0"/>
          </p:cNvCxnSpPr>
          <p:nvPr/>
        </p:nvCxnSpPr>
        <p:spPr>
          <a:xfrm>
            <a:off x="4572000" y="2285640"/>
            <a:ext cx="115200" cy="135324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cxnSp>
        <p:nvCxnSpPr>
          <p:cNvPr id="99" name=""/>
          <p:cNvCxnSpPr>
            <a:endCxn id="92" idx="0"/>
          </p:cNvCxnSpPr>
          <p:nvPr/>
        </p:nvCxnSpPr>
        <p:spPr>
          <a:xfrm>
            <a:off x="5409720" y="2286000"/>
            <a:ext cx="2194920" cy="1505520"/>
          </a:xfrm>
          <a:prstGeom prst="straightConnector1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</p:cxnSp>
      <p:sp>
        <p:nvSpPr>
          <p:cNvPr id="100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2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57200" y="1219320"/>
            <a:ext cx="7851600" cy="24606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2514600" y="1066680"/>
            <a:ext cx="2743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SPL (beam in 2015 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172200" y="3809880"/>
            <a:ext cx="2208240" cy="2524320"/>
          </a:xfrm>
          <a:prstGeom prst="rect">
            <a:avLst/>
          </a:prstGeom>
          <a:ln w="38160">
            <a:solidFill>
              <a:srgbClr val="0056ac"/>
            </a:solidFill>
            <a:miter/>
          </a:ln>
        </p:spPr>
      </p:pic>
      <p:sp>
        <p:nvSpPr>
          <p:cNvPr id="104" name=""/>
          <p:cNvSpPr/>
          <p:nvPr/>
        </p:nvSpPr>
        <p:spPr>
          <a:xfrm>
            <a:off x="517680" y="3770280"/>
            <a:ext cx="5045040" cy="2401920"/>
          </a:xfrm>
          <a:prstGeom prst="rect">
            <a:avLst/>
          </a:prstGeom>
          <a:solidFill>
            <a:srgbClr val="c5db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location of Linac4, adding 366 m of SC R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S booster becomes obsolet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vity power &lt; 1 M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ESLA/ILC type cryostats (INFN Milano) wit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-cell SC Nb cavities (CEA/INFN) and co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adrupol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SzPct val="10281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ayout and beam dynamics (CEA Saclay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6248520" y="2666880"/>
            <a:ext cx="304560" cy="1067040"/>
          </a:xfrm>
          <a:prstGeom prst="line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6933960" y="2666880"/>
            <a:ext cx="152280" cy="1067040"/>
          </a:xfrm>
          <a:prstGeom prst="line">
            <a:avLst/>
          </a:prstGeom>
          <a:ln w="25560">
            <a:solidFill>
              <a:srgbClr val="0056ac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80880" y="152280"/>
            <a:ext cx="8229600" cy="5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3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0" y="152280"/>
            <a:ext cx="9144000" cy="63882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4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ecff"/>
            </a:gs>
            <a:gs pos="100000">
              <a:srgbClr val="fff3f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971800" y="685800"/>
            <a:ext cx="358128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56ac"/>
                </a:solidFill>
                <a:latin typeface="Arial"/>
              </a:rPr>
              <a:t>Beam dynamics (CEA Saclay)</a:t>
            </a:r>
            <a:endParaRPr b="0" lang="en-US" sz="1800" spc="-1" strike="noStrike">
              <a:solidFill>
                <a:srgbClr val="0056ac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609480" y="1066680"/>
            <a:ext cx="3162600" cy="268308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62120" y="4191120"/>
            <a:ext cx="3162240" cy="199368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105520" y="1066680"/>
            <a:ext cx="3217680" cy="268776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5105520" y="4191120"/>
            <a:ext cx="3244680" cy="2001600"/>
          </a:xfrm>
          <a:prstGeom prst="rect">
            <a:avLst/>
          </a:prstGeom>
          <a:ln w="25560">
            <a:solidFill>
              <a:srgbClr val="0056ac"/>
            </a:solidFill>
            <a:miter/>
          </a:ln>
        </p:spPr>
      </p:pic>
      <p:sp>
        <p:nvSpPr>
          <p:cNvPr id="115" name=""/>
          <p:cNvSpPr/>
          <p:nvPr/>
        </p:nvSpPr>
        <p:spPr>
          <a:xfrm>
            <a:off x="1076760" y="6172200"/>
            <a:ext cx="248184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hase advance per met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874480" y="6172200"/>
            <a:ext cx="193176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mittance evol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455120" y="3733920"/>
            <a:ext cx="167112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eam envelop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875920" y="3733920"/>
            <a:ext cx="1953000" cy="3373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put phase spa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80880" y="152280"/>
            <a:ext cx="5181840" cy="563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6ac"/>
                </a:solidFill>
                <a:latin typeface="Arial"/>
              </a:rPr>
              <a:t>3. Staged construction (5/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1-18T10:28:16Z</dcterms:created>
  <dc:creator>gerigk</dc:creator>
  <dc:description/>
  <dc:language>en-US</dc:language>
  <cp:lastModifiedBy>garoby</cp:lastModifiedBy>
  <dcterms:modified xsi:type="dcterms:W3CDTF">2006-01-19T07:21:08Z</dcterms:modified>
  <cp:revision>46</cp:revision>
  <dc:subject/>
  <dc:title>Slide 1</dc:title>
</cp:coreProperties>
</file>